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A72C-4116-4FD3-A6C2-74CE4650FA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57EF-C262-4E90-8278-A5C6E75264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DCF-E193-4A0B-8B41-43A55D9B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152-42C4-4473-9326-998CE7C6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561-2F47-44A6-9CD0-E67602FB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9BF-4011-4454-A26D-4A59CAC0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74B-0E6D-4C47-B37F-BAB47F44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D6A8-3B64-41EF-A46D-9B4EF9EF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A8E-D1CB-4F8D-9CE0-97B7C14E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326-9161-4785-B9E4-3A2DA1AB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E24-26B0-4CB8-AED1-8F8BFB20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CFD-8FCB-4438-9EC5-379FC51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AC0-3947-4DB8-BE59-5AAB4272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FDC-50C1-41A9-A232-039952C2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F2F6-A6FD-4286-B7D4-5F04F7D09A61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Stopping_food_waste,_one_picnic_at_a_time" TargetMode="External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133200" y="36360"/>
            <a:ext cx="953928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280" y="549360"/>
            <a:ext cx="820908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Read the article to check your answer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6b9f25"/>
                </a:solidFill>
                <a:uFillTx/>
                <a:latin typeface="Book Antiqua"/>
                <a:hlinkClick r:id="rId1"/>
              </a:rPr>
              <a:t>http://eewiki.newint.org/index.php/Stopping_food_waste,_one_picnic_at_a_tim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 Antiqua"/>
              </a:rPr>
              <a:t>And find out about the movement: </a:t>
            </a:r>
            <a:r>
              <a:rPr b="1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3851280" y="4005360"/>
            <a:ext cx="390672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5-26T19:15:58Z</dcterms:modified>
  <cp:revision>12</cp:revision>
  <dc:subject/>
  <dc:title>How to stop food waste</dc:title>
</cp:coreProperties>
</file>